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1AB-8D37-4108-928F-0867539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016-4AA1-4F8E-8FA7-1D96AA2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358-F5B3-4B0D-83BD-FAB90CA0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3A2-C7EA-479C-BFE8-3B135B1F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7DE-EE97-4AB8-9296-9CB406D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4F7-B061-4815-8C4D-D75E763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2C2-DE3D-45B3-B190-93933E0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511-1BF0-4CDE-B7AE-2C32C9C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F4B-5D17-425E-A109-9FFDA9DC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701-A6FE-49DE-BCA6-CED5CFC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32B-50D4-42AA-936A-627C8CF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363-D1E3-4049-9DC5-4BE4BD4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F81-4096-47EA-A6BD-85AF2FF8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y Sean Klopot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15238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000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Las Comi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000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90920" y="38088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Desayuno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El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248520"/>
            <a:ext cx="670572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00"/>
                </a:solidFill>
                <a:latin typeface="Arial"/>
              </a:rPr>
              <a:t>Para el desayuno me gusta comer el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76720" y="1295280"/>
            <a:ext cx="1760400" cy="252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El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15000" y="15238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 p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át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765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00240" y="3886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3233880" cy="215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1280" y="46483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é con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562720" y="4114800"/>
            <a:ext cx="2171520" cy="21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3200400" y="4952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72000" y="57913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819520" y="152280"/>
            <a:ext cx="297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El Almuerz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6095880"/>
            <a:ext cx="56386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el almuerzo me gusta comer una hamburg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42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Una 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2900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943600" y="1523880"/>
            <a:ext cx="2762280" cy="165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44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a Coca-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2381040" cy="192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1952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 Hot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43200" y="5029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524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343400" y="28954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8880" y="28191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352680" y="53352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Cen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2847960" cy="214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200400" y="1447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095880" y="1371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304920" y="4343400"/>
            <a:ext cx="191448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733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Bif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00200" y="32763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419360" y="3047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24480" y="32763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76160" y="5029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943600"/>
            <a:ext cx="5486400" cy="459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cena me gusta comer 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05120" y="762120"/>
            <a:ext cx="4419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313ed"/>
                    </a:gs>
                    <a:gs pos="50000">
                      <a:srgbClr val="12ee37"/>
                    </a:gs>
                    <a:gs pos="100000">
                      <a:srgbClr val="1313ed"/>
                    </a:gs>
                  </a:gsLst>
                  <a:lin ang="5400000"/>
                </a:gradFill>
                <a:latin typeface="Impact"/>
              </a:rPr>
              <a:t>Thanks f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313ed"/>
                  </a:gs>
                  <a:gs pos="50000">
                    <a:srgbClr val="12ee37"/>
                  </a:gs>
                  <a:gs pos="100000">
                    <a:srgbClr val="1313e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365760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WATCHING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cc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4:57Z</dcterms:created>
  <dc:creator>sklopotoski</dc:creator>
  <dc:description/>
  <dc:language>en-US</dc:language>
  <cp:lastModifiedBy>sklopotoski</cp:lastModifiedBy>
  <dcterms:modified xsi:type="dcterms:W3CDTF">2012-04-05T14:02:35Z</dcterms:modified>
  <cp:revision>4</cp:revision>
  <dc:subject/>
  <dc:title>Slide 1</dc:title>
</cp:coreProperties>
</file>